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sting.wav" ContentType="audio/x-wav"/>
  <Override PartName="/ppt/media/drumroll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2DB-A7FD-4C20-A428-18FF905D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854-E528-4AF1-A8EE-7C09234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96B-26AB-4EDD-ACFA-A25A90FF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861-D025-4650-BA51-858FE235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774-45BF-4F97-94B6-1812C749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05E-9195-40A5-84E6-773ECE06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2DF-CF61-44CB-AF99-6846C7E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C40-9730-4875-B87F-B650A46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E04-1EF7-44BD-A275-E9271AF3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A2D-C46A-4D01-B937-3E8D66E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007-BB62-4B48-9DF4-CBDB436B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901-077F-40AE-A651-89EDDFB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880D-84DA-4543-9DFA-5AF3620BAC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57400" y="2743200"/>
            <a:ext cx="4648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Yea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6" descr="ag00317_"/>
          <p:cNvPicPr/>
          <p:nvPr/>
        </p:nvPicPr>
        <p:blipFill>
          <a:blip r:embed="rId1"/>
          <a:stretch/>
        </p:blipFill>
        <p:spPr>
          <a:xfrm>
            <a:off x="6781680" y="3505320"/>
            <a:ext cx="17208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ag00315_"/>
          <p:cNvPicPr/>
          <p:nvPr/>
        </p:nvPicPr>
        <p:blipFill>
          <a:blip r:embed="rId2"/>
          <a:stretch/>
        </p:blipFill>
        <p:spPr>
          <a:xfrm>
            <a:off x="457200" y="38098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is the name for ‘making food’ done by pla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on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n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is the name for ‘making food’ done by pla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on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n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ich gas is taken in by plants to make foo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ich gas is taken in by plants to make foo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e plant take in carbon dioxid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roo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flow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rough its tru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lea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e plant take in carbon dioxid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roo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flow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rough its tru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lea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other material needed by plants to make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other material needed by plants to make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ich type of energy is used by the plant when making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ich type of energy is used by the plant when making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is the main colour of the plant pigment which absorbs l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is energy come fro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is energy come fro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name of the waste gas given out in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name of the waste gas given out in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y do water lilies have large leaves?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shelter from rai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catch f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is the main colour of the plant pigment which absorbs l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y do water lilies have large lea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shelter from rai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catch f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which conditions will cress seeds not grow at 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which conditions will cress seeds not grow at 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yellow, tall and stragg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yellow, tall and stragg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green, sturdy and healt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green, sturdy and healt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for the green colouring in pla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lorofo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for the green colouring in pla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lorofo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does C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does C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of the food which plants mak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of the food which plants mak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WinuE</cp:lastModifiedBy>
  <dcterms:modified xsi:type="dcterms:W3CDTF">2009-09-04T20:58:53Z</dcterms:modified>
  <cp:revision>29</cp:revision>
  <dc:subject/>
  <dc:title>Who Wants To Be A Millionaire?</dc:title>
</cp:coreProperties>
</file>